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CD602-4A98-4C73-95D2-2D451531CD4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2F9C6-ADD5-4DDA-9598-60934067689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8C731-E0C7-4AF5-8976-6DE9E703F58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017F5-1F8C-4D9B-A9AC-533CF02CB46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03F73-DCCF-47A9-A321-CCA55DC61AA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8A2A6-DDEE-42E5-BBCD-46AEA0C2797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34021-41F5-4347-A230-76BE9C83AE7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7BF0-DCC8-4F74-95FF-AD8539AA7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F3E3-34B7-4937-B999-FC97D2F3E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4921-8261-45F8-8AAD-C371C3B49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37AC-6BDC-438E-8781-F3E0A5E98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8343-A62A-48E5-840E-51A2FA87F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60ED-CED4-4D47-AFA1-0591B083D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BA10-E87D-44C0-8F36-5AEF1DD52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B4E3-2729-4679-92A3-BB7CE8287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330C-FF52-41A1-ABD7-1A60629AB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0FDD-0F36-4572-AD04-2E4756A20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07B2-169B-4C59-97CB-9C7A5F221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DEA1-2C69-4F6C-AA58-EEC1E72DA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FB3DA-E95D-4058-8D8A-7AA9C591EA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468360" y="2133720"/>
            <a:ext cx="8280360" cy="218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ok up 10 opinions to describe different leisure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fun, boring, energe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TE: THESE WILL BE ADJECTIVES, SO LOOK FOR 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dj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T THE START OF THE E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4"/>
          <p:cNvSpPr/>
          <p:nvPr/>
        </p:nvSpPr>
        <p:spPr>
          <a:xfrm>
            <a:off x="684360" y="907920"/>
            <a:ext cx="3024000" cy="4909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Some key opin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ocial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lajante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útil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inút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bien para la salu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mal para la salu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interesante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3708360" y="907920"/>
            <a:ext cx="3024360" cy="4909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ociable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laxing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useful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usel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good for the heal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bad for the heal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interesting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468360" y="2060640"/>
            <a:ext cx="2951280" cy="2311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¿Por qué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Porque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3780000" y="2492280"/>
            <a:ext cx="4824360" cy="10688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difference is there between these 2 word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68360" y="2060640"/>
            <a:ext cx="2951280" cy="395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¿Por qué te gust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Porque es muy útil para mi futur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780000" y="2492280"/>
            <a:ext cx="4824360" cy="10688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n you work out what they me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684360" y="404640"/>
            <a:ext cx="3024000" cy="4909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Some key opin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ocial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lajante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útil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inút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bien para la salu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mal para la salu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interesante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708360" y="404640"/>
            <a:ext cx="3024360" cy="4909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ociable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laxing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useful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usel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good for the heal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bad for the heal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interesting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684360" y="5445000"/>
            <a:ext cx="504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684360" y="5300640"/>
            <a:ext cx="4608360" cy="101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¿Por qué? – wh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porque es…- because it i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5435640" y="5229360"/>
            <a:ext cx="3419280" cy="1373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¿Por qué te gustan tus actividades favorita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826920" y="1268280"/>
          <a:ext cx="7921800" cy="4032360"/>
        </p:xfrm>
        <a:graphic>
          <a:graphicData uri="http://schemas.openxmlformats.org/drawingml/2006/table">
            <a:tbl>
              <a:tblPr/>
              <a:tblGrid>
                <a:gridCol w="744840"/>
                <a:gridCol w="3319200"/>
                <a:gridCol w="3857760"/>
              </a:tblGrid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inio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7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1" name="Text Box 38"/>
          <p:cNvSpPr/>
          <p:nvPr/>
        </p:nvSpPr>
        <p:spPr>
          <a:xfrm>
            <a:off x="5003640" y="3429000"/>
            <a:ext cx="26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o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9"/>
          <p:cNvSpPr/>
          <p:nvPr/>
        </p:nvSpPr>
        <p:spPr>
          <a:xfrm>
            <a:off x="5076720" y="2060640"/>
            <a:ext cx="26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nerge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0"/>
          <p:cNvSpPr/>
          <p:nvPr/>
        </p:nvSpPr>
        <p:spPr>
          <a:xfrm>
            <a:off x="1619280" y="2708280"/>
            <a:ext cx="26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a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1"/>
          <p:cNvSpPr/>
          <p:nvPr/>
        </p:nvSpPr>
        <p:spPr>
          <a:xfrm>
            <a:off x="5003640" y="2708280"/>
            <a:ext cx="26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2"/>
          <p:cNvSpPr/>
          <p:nvPr/>
        </p:nvSpPr>
        <p:spPr>
          <a:xfrm>
            <a:off x="1619280" y="3429000"/>
            <a:ext cx="26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stening to mus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43"/>
          <p:cNvSpPr/>
          <p:nvPr/>
        </p:nvSpPr>
        <p:spPr>
          <a:xfrm>
            <a:off x="1619280" y="2060640"/>
            <a:ext cx="26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asketb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44"/>
          <p:cNvSpPr/>
          <p:nvPr/>
        </p:nvSpPr>
        <p:spPr>
          <a:xfrm>
            <a:off x="1619280" y="4076640"/>
            <a:ext cx="26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atching T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45"/>
          <p:cNvSpPr/>
          <p:nvPr/>
        </p:nvSpPr>
        <p:spPr>
          <a:xfrm>
            <a:off x="5076720" y="4076640"/>
            <a:ext cx="35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ad for your heal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7"/>
          <p:cNvSpPr/>
          <p:nvPr/>
        </p:nvSpPr>
        <p:spPr>
          <a:xfrm>
            <a:off x="1619280" y="4724280"/>
            <a:ext cx="26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noe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8"/>
          <p:cNvSpPr/>
          <p:nvPr/>
        </p:nvSpPr>
        <p:spPr>
          <a:xfrm>
            <a:off x="5076720" y="4724280"/>
            <a:ext cx="26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oesn’t mind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9"/>
          <p:cNvSpPr/>
          <p:nvPr/>
        </p:nvSpPr>
        <p:spPr>
          <a:xfrm>
            <a:off x="395280" y="333360"/>
            <a:ext cx="5905440" cy="4597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pia la tabla- pero escribe en ingl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leisure opinions.mp3" descr=""/>
          <p:cNvPicPr/>
          <p:nvPr/>
        </p:nvPicPr>
        <p:blipFill>
          <a:blip r:embed="rId1"/>
          <a:stretch/>
        </p:blipFill>
        <p:spPr>
          <a:xfrm>
            <a:off x="324000" y="1197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74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7" dur="41537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17:54:53Z</dcterms:created>
  <dc:creator>Owner1</dc:creator>
  <dc:description/>
  <dc:language>en-US</dc:language>
  <cp:lastModifiedBy>Chris</cp:lastModifiedBy>
  <dcterms:modified xsi:type="dcterms:W3CDTF">2009-01-22T19:01:35Z</dcterms:modified>
  <cp:revision>4</cp:revision>
  <dc:subject/>
  <dc:title>Slide 1</dc:title>
</cp:coreProperties>
</file>